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C5DD-FC9F-4BF9-A677-B6CB8A9FAB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7F4E-D3BD-4000-BA11-C27A218C2D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C81B-79B7-4188-92A3-89F082F50D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rst of all a bit about the background to the project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Y SPT 11-14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AF70-977C-4825-BD31-D848119AE6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440" y="4522680"/>
            <a:ext cx="69847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244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0156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84040" y="19684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0" y="19684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2440" y="45226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84040" y="45226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46000" y="45226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20200" y="800280"/>
            <a:ext cx="7232760" cy="13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44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0156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2440" y="4522680"/>
            <a:ext cx="69847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6692760" y="5753160"/>
            <a:ext cx="1616040" cy="1052280"/>
            <a:chOff x="6692760" y="5753160"/>
            <a:chExt cx="1616040" cy="105228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7201080" y="5753160"/>
              <a:ext cx="110772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692760" y="5867280"/>
              <a:ext cx="567000" cy="24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8356680" y="0"/>
            <a:ext cx="78084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1343160" y="-6480"/>
            <a:ext cx="7800480" cy="6864120"/>
            <a:chOff x="1343160" y="-6480"/>
            <a:chExt cx="7800480" cy="6864120"/>
          </a:xfrm>
        </p:grpSpPr>
        <p:pic>
          <p:nvPicPr>
            <p:cNvPr id="50" name="Picture 3" descr=""/>
            <p:cNvPicPr/>
            <p:nvPr/>
          </p:nvPicPr>
          <p:blipFill>
            <a:blip r:embed="rId1"/>
            <a:stretch/>
          </p:blipFill>
          <p:spPr>
            <a:xfrm>
              <a:off x="3315600" y="1728720"/>
              <a:ext cx="4462560" cy="45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343160" y="1334880"/>
              <a:ext cx="227880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5" descr=""/>
            <p:cNvPicPr/>
            <p:nvPr/>
          </p:nvPicPr>
          <p:blipFill>
            <a:blip r:embed="rId3"/>
            <a:stretch/>
          </p:blipFill>
          <p:spPr>
            <a:xfrm>
              <a:off x="8422920" y="-6480"/>
              <a:ext cx="720720" cy="686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6"/>
          <p:cNvSpPr/>
          <p:nvPr/>
        </p:nvSpPr>
        <p:spPr>
          <a:xfrm>
            <a:off x="7104240" y="5410080"/>
            <a:ext cx="1195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800280"/>
            <a:ext cx="813780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b400"/>
                </a:solidFill>
                <a:latin typeface="Arial"/>
              </a:rPr>
              <a:t>Explaining physical phenomena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practical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small groups, come up with the best explanation that you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akes an ‘explanation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b400"/>
                </a:solidFill>
                <a:latin typeface="Arial"/>
              </a:rPr>
              <a:t>What does it mean?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69850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lanket of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er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ologic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istance of a w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nessing wate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eart is a p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w in an electrical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ye as a 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do the expressions come from? Are they useful or harm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 algn="ctr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b400"/>
                </a:solidFill>
                <a:latin typeface="Arial"/>
              </a:rPr>
              <a:t>SASP Physics day 2</a:t>
            </a:r>
            <a:endParaRPr b="1" lang="en-US" sz="36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2133720"/>
            <a:ext cx="64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undamentals in Physic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Physic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b400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211880" cy="3782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43080" indent="-343080">
              <a:lnSpc>
                <a:spcPts val="4499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eciate the scope of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 the way that physical phenomena are measured and ob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gnise the importance of the ‘Big Picture’ to lea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 proportionality and index notation in teaching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4499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078440" y="7300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b400"/>
                </a:solidFill>
                <a:latin typeface="Arial"/>
              </a:rPr>
              <a:t>What is Physics?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y to answer the question in your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ider forming more than one answer – in different contexts and for different audi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b400"/>
                </a:solidFill>
                <a:latin typeface="Arial"/>
              </a:rPr>
              <a:t>Fermi Questions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igned to provide a ‘no-stakes’ environment for mathematical risk 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dents are encouraged to make assumptions and informed gu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 assumptions (and their justification, if appropriate) as you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b400"/>
                </a:solidFill>
                <a:latin typeface="Arial"/>
              </a:rPr>
              <a:t>A Fermi question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out how many jelly babies it would take to fill Wembley Stad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b400"/>
                </a:solidFill>
                <a:latin typeface="Arial"/>
              </a:rPr>
              <a:t>Space and Time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range of space and time that humans can directly exper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llustrate your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b400"/>
                </a:solidFill>
                <a:latin typeface="Arial"/>
              </a:rPr>
              <a:t>C:\Documents and Settings\Neil.Adams\My Documents\Downloads\fantastictrip-091230101838-phpapp01.pps</a:t>
            </a:r>
            <a:endParaRPr b="1" lang="en-US" sz="1600" spc="-1" strike="noStrike">
              <a:solidFill>
                <a:srgbClr val="ffb400"/>
              </a:solidFill>
              <a:latin typeface="Arial"/>
            </a:endParaRPr>
          </a:p>
        </p:txBody>
      </p:sp>
      <p:graphicFrame>
        <p:nvGraphicFramePr>
          <p:cNvPr id="68" name="Rectangle 5"/>
          <p:cNvGraphicFramePr/>
          <p:nvPr/>
        </p:nvGraphicFramePr>
        <p:xfrm>
          <a:off x="1892160" y="3998880"/>
          <a:ext cx="8766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Rectangle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3998880"/>
                    <a:ext cx="8766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b400"/>
                </a:solidFill>
                <a:latin typeface="Arial"/>
              </a:rPr>
              <a:t>Competition time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 as many units as you can for time and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nus points for interesting facts about the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6:03:22Z</dcterms:created>
  <dc:creator/>
  <dc:description/>
  <cp:keywords/>
  <dc:language>en-US</dc:language>
  <cp:lastModifiedBy>Neil.Adams</cp:lastModifiedBy>
  <dcterms:modified xsi:type="dcterms:W3CDTF">2010-07-13T16:54:04Z</dcterms:modified>
  <cp:revision>407</cp:revision>
  <dc:subject/>
  <dc:title>PowerPoint Presentation</dc:title>
</cp:coreProperties>
</file>